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76D-A2DC-478C-BF25-8EFC2A58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AC3-F0A9-45AF-AFE3-7DB9C457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44F-FCE0-49A9-A5A0-BC6400AC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AC9-EFE0-4E13-B2D8-E09D80D6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4B99-3E2F-45E0-9EB7-E27816C9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F005-5102-48B8-8034-AA72DCE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6606-8CC2-4EF3-91C8-49E45BEA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13C4-D0CB-4211-BD7F-C294C62E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F86D-C4CA-467A-9DEF-F3DEDB76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D228-8B55-4C6D-91F1-13C7DB1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19C7-E69F-4355-9C2F-65CFAC22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0A5-ABC5-458E-8EEB-1766E76D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E77C-9DB2-4000-9057-8243996F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8F5-4BDE-4ECF-BF28-73F8A7AC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F9F9-DC99-4DCF-8366-7BE6093D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6758-2079-44F8-8BEB-D48B52AD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EE5A-F7B4-4C57-835D-D96339C3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3572-4C06-4BDD-9B9A-D969C81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735-0AB2-4CAE-B501-8FC5AD15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F4B-6C19-46B1-811D-99019566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CE9-43F8-420F-AD3A-A8FFF75F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120-2F3B-43A4-B293-23DBBA52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CA8-B063-4071-AF21-1E47989B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5C0-3445-4B26-868C-FA4E283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784-3017-4B50-97D8-CF8B50F68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1E0-A7D6-43B7-984B-6E4230069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haracter Sketch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581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ting it up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aracter sketch describes how an author has created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ntal im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f a character with her word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he author does, says or thinks about the character helps shape the reader’s opin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also influenced by the character’s interactions with others in the book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Character Sketch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haracter may be described in many areas (physical, mental, social, moral, etc).  These all affect how the reader reacts to the character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now you have developed lists of character traits for three of the major characters in your novel, along with support from the text itself.  This will be your researc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which of the three characters you would like to use for your Character Sketch essay.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sure the character you choose is interesting to you.  This should also be a character that you feel has been well-described and has developed throughout your nove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is the time to make sure that you have enough character traits and support to fully develop your writ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your Character Essay Planning Page to set up the first draft of your sketc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as specific as you can in your description.  Make sure to cite real examples from the novel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are links on our wiki to hel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n the Horizon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aragraphing review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irst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it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Second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iting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Third Draft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ou see where I’m going with thi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2:51:40Z</dcterms:created>
  <dc:creator>Administrator</dc:creator>
  <dc:description/>
  <dc:language>en-US</dc:language>
  <cp:lastModifiedBy>Administrator</cp:lastModifiedBy>
  <dcterms:modified xsi:type="dcterms:W3CDTF">2007-02-07T13:13:47Z</dcterms:modified>
  <cp:revision>4</cp:revision>
  <dc:subject/>
  <dc:title>The Character Sketch</dc:title>
</cp:coreProperties>
</file>